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713D-C5A5-4981-A762-79F0CD16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DF6-AAC9-45B1-A83C-B735C7A8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F25-7C0E-49E9-9B4A-40CF8530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24F1-D302-41A2-8247-1CA8D37C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C9B-7AC0-4068-ACE9-EB0D8F87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CE8-74CB-4106-ADC8-2E95BBBB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A82-B852-4B68-9AD3-AE651C52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4C6-2FD3-4675-BC08-FE19547C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B42-47F5-4970-B7FF-E85B730C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D16F-FF68-442B-A05A-DB00F311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CA6B-B7F7-42E8-9F7A-5AB954A4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692-0AB8-4EF0-8207-5ED30C65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7FB0-085C-4E19-84EA-7212FED11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Me llamo _____________       Clase 7IM</a:t>
            </a:r>
            <a:br>
              <a:rPr sz="3600"/>
            </a:b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La fecha es el 28 de septiembre del 201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opósito # 6: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los verb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interesa o te aburre el béisb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interesa o te aburre el ar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interesan o te aburren los juegos de futb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interesan o te aburren los deportes en la televis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membe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TERESAR, ABURRIR &amp; GUS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only you to change is the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“Te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“Me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‘cus th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erb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tay the same in the Q and 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ust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a clase de españ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(no) </a:t>
            </a: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m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ust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a clase de españ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interesa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os depor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(si) </a:t>
            </a: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m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interesa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os depo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burr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os libr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(no) </a:t>
            </a: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m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burr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os lib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gusta el futb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gusta el béisb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gusta el voleib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gusta mas el béisbol o el futb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gusta mas el voleibol o el basquetb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gusta el gol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gusta el ten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1600200" cy="13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33720" y="1219320"/>
            <a:ext cx="1380960" cy="1247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105520" y="1371600"/>
            <a:ext cx="1952640" cy="1357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238880" y="1447920"/>
            <a:ext cx="1719360" cy="1231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04920" y="4114800"/>
            <a:ext cx="1904760" cy="1650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362320" y="44956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3733920" y="1371600"/>
            <a:ext cx="1147680" cy="1657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6629400" y="4267080"/>
            <a:ext cx="2362320" cy="1687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162920" y="6019920"/>
            <a:ext cx="1371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rij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038480" y="5943600"/>
            <a:ext cx="21337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ege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3429000" y="4343400"/>
            <a:ext cx="3124080" cy="140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362320" y="5638680"/>
            <a:ext cx="1371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81080" y="2514600"/>
            <a:ext cx="15242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sa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2970360"/>
            <a:ext cx="23623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amburgu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5865840"/>
            <a:ext cx="10666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124080" y="3124080"/>
            <a:ext cx="2210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Ju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de nar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181480" y="2819520"/>
            <a:ext cx="17528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162920" y="2743200"/>
            <a:ext cx="1676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ándw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9067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gusta la ensal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gusta un sándwich de jamón y que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gusta el pesc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gusta el jugo de naran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gusta la sop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gustan los veget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gustan los tom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gustan las hamburgues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gustan los frijo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1:06:47Z</dcterms:created>
  <dc:creator>Helen Zumaeta</dc:creator>
  <dc:description/>
  <dc:language>en-US</dc:language>
  <cp:lastModifiedBy>Helen Zumaeta</cp:lastModifiedBy>
  <dcterms:modified xsi:type="dcterms:W3CDTF">2011-09-28T18:57:44Z</dcterms:modified>
  <cp:revision>7</cp:revision>
  <dc:subject/>
  <dc:title>Me llamo _____________       Clase 7IM La fecha es el 28 de septiembre del 2011 </dc:title>
</cp:coreProperties>
</file>